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5084-0762-4E08-85E8-9FC045F5AC95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992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: Data Management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US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/* Date and Tim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4 = CALENDAR_DATE (1999, 28, 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5 = LOCAL_TIME (18, 30, $, #30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6 = COORDINATED_UNIVERSAL_TIME_OFFSET (1, $, .AHEAD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8 = DATE_AND_TIME (#3004, #300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7" idx="0"/>
            <a:endCxn id="295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97" idx="0"/>
            <a:endCxn id="294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9" idx="0"/>
            <a:endCxn id="301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89" idx="0"/>
            <a:endCxn id="300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4" idx="0"/>
            <a:endCxn id="312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4" idx="0"/>
            <a:endCxn id="311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06" idx="0"/>
            <a:endCxn id="318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06" idx="0"/>
            <a:endCxn id="317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24" idx="0"/>
            <a:endCxn id="32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1360" y="560088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2160" y="57420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5920" y="561348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6"/>
            <a:endCxn id="331" idx="1"/>
          </p:cNvCxnSpPr>
          <p:nvPr/>
        </p:nvCxnSpPr>
        <p:spPr>
          <a:xfrm flipV="1">
            <a:off x="3278160" y="5825880"/>
            <a:ext cx="502560" cy="10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8088480" y="56260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88320" y="5742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2"/>
            <a:endCxn id="331" idx="3"/>
          </p:cNvCxnSpPr>
          <p:nvPr/>
        </p:nvCxnSpPr>
        <p:spPr>
          <a:xfrm flipH="1" flipV="1">
            <a:off x="6109560" y="5825880"/>
            <a:ext cx="17643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43" idx="0"/>
            <a:endCxn id="341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43" idx="0"/>
            <a:endCxn id="340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4595760"/>
            <a:ext cx="1080" cy="112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1360" y="560700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571824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7720" y="573732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74920" y="573084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62160" y="5726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5920" y="560700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4" idx="6"/>
            <a:endCxn id="355" idx="1"/>
          </p:cNvCxnSpPr>
          <p:nvPr/>
        </p:nvCxnSpPr>
        <p:spPr>
          <a:xfrm>
            <a:off x="3278160" y="5819400"/>
            <a:ext cx="502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8105760" y="560700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88320" y="5726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8" idx="2"/>
            <a:endCxn id="355" idx="3"/>
          </p:cNvCxnSpPr>
          <p:nvPr/>
        </p:nvCxnSpPr>
        <p:spPr>
          <a:xfrm flipH="1">
            <a:off x="6109560" y="5819400"/>
            <a:ext cx="1764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10760" y="4597560"/>
            <a:ext cx="1851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53160" y="50562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4"/>
            <a:endCxn id="355" idx="0"/>
          </p:cNvCxnSpPr>
          <p:nvPr/>
        </p:nvCxnSpPr>
        <p:spPr>
          <a:xfrm flipH="1">
            <a:off x="4944240" y="5272200"/>
            <a:ext cx="2520" cy="32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670520" y="4635360"/>
            <a:ext cx="1340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421840" y="51069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5" idx="4"/>
            <a:endCxn id="357" idx="0"/>
          </p:cNvCxnSpPr>
          <p:nvPr/>
        </p:nvCxnSpPr>
        <p:spPr>
          <a:xfrm>
            <a:off x="8515440" y="5322600"/>
            <a:ext cx="8640" cy="2703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7761960" y="3670200"/>
            <a:ext cx="11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56600" y="41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8" idx="4"/>
            <a:endCxn id="364" idx="0"/>
          </p:cNvCxnSpPr>
          <p:nvPr/>
        </p:nvCxnSpPr>
        <p:spPr>
          <a:xfrm flipH="1">
            <a:off x="8340480" y="4357800"/>
            <a:ext cx="10080" cy="264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8" idx="3"/>
            <a:endCxn id="371" idx="0"/>
          </p:cNvCxnSpPr>
          <p:nvPr/>
        </p:nvCxnSpPr>
        <p:spPr>
          <a:xfrm>
            <a:off x="4048200" y="1328400"/>
            <a:ext cx="3488400" cy="113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73" idx="2"/>
            <a:endCxn id="374" idx="6"/>
          </p:cNvCxnSpPr>
          <p:nvPr/>
        </p:nvCxnSpPr>
        <p:spPr>
          <a:xfrm rot="5400000">
            <a:off x="6010560" y="1452960"/>
            <a:ext cx="903960" cy="21981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8242200" y="3497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3" idx="2"/>
            <a:endCxn id="375" idx="0"/>
          </p:cNvCxnSpPr>
          <p:nvPr/>
        </p:nvCxnSpPr>
        <p:spPr>
          <a:xfrm flipH="1" rot="16200000">
            <a:off x="7247520" y="2412720"/>
            <a:ext cx="1383480" cy="75780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1120680" y="2781360"/>
            <a:ext cx="4040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8280" y="3227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37" idx="0"/>
            <a:endCxn id="378" idx="4"/>
          </p:cNvCxnSpPr>
          <p:nvPr/>
        </p:nvCxnSpPr>
        <p:spPr>
          <a:xfrm flipH="1" flipV="1" rot="5400000">
            <a:off x="2187000" y="3061800"/>
            <a:ext cx="518400" cy="1251720"/>
          </a:xfrm>
          <a:prstGeom prst="bentConnector3">
            <a:avLst>
              <a:gd name="adj1" fmla="val 4996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778400" y="33163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97760" y="1455840"/>
            <a:ext cx="2519280" cy="620280"/>
            <a:chOff x="6197760" y="1455840"/>
            <a:chExt cx="2519280" cy="620280"/>
          </a:xfrm>
        </p:grpSpPr>
        <p:sp>
          <p:nvSpPr>
            <p:cNvPr id="373" name=""/>
            <p:cNvSpPr/>
            <p:nvPr/>
          </p:nvSpPr>
          <p:spPr>
            <a:xfrm>
              <a:off x="6404040" y="1690560"/>
              <a:ext cx="23130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42280" y="1455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543720" y="16873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97760" y="17985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62400" y="29098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39" idx="3"/>
            <a:endCxn id="383" idx="2"/>
          </p:cNvCxnSpPr>
          <p:nvPr/>
        </p:nvCxnSpPr>
        <p:spPr>
          <a:xfrm>
            <a:off x="4047840" y="1887120"/>
            <a:ext cx="2135880" cy="540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4217040" y="15127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0920" y="9795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instance being Managed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ARTESIAN_POINT ('node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Management */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01 = MANAGED_DATA_ITEM (1, #5002, #1, (#5003, #5004), .T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3 = MANAGED_DATA_CREATION (#5002, #2220, #3013, .T., 'preliminary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4 = MANAGED_DATA_EXPORT (#5002, #2220, #3014, .F., 'preliminary', $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STEP_FILE ('dmc test', 'test of data management', 'C:\\my documents\\dmc3.stp', 'STP', #3008, 'STEP Part 21 file', (#2220), (#2208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8760" y="960480"/>
            <a:ext cx="8820000" cy="48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12720" y="4154400"/>
            <a:ext cx="2059200" cy="608040"/>
            <a:chOff x="612720" y="4154400"/>
            <a:chExt cx="2059200" cy="608040"/>
          </a:xfrm>
        </p:grpSpPr>
        <p:sp>
          <p:nvSpPr>
            <p:cNvPr id="95" name=""/>
            <p:cNvSpPr/>
            <p:nvPr/>
          </p:nvSpPr>
          <p:spPr>
            <a:xfrm>
              <a:off x="612720" y="437688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11280" y="4154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77960" y="43736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8" name=""/>
          <p:cNvCxnSpPr>
            <a:stCxn id="99" idx="2"/>
            <a:endCxn id="96" idx="0"/>
          </p:cNvCxnSpPr>
          <p:nvPr/>
        </p:nvCxnSpPr>
        <p:spPr>
          <a:xfrm>
            <a:off x="1603440" y="306180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342720" y="35416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2440" y="262260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64120" y="3659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46240" y="5713560"/>
            <a:ext cx="2863800" cy="398880"/>
            <a:chOff x="2946240" y="5713560"/>
            <a:chExt cx="2863800" cy="398880"/>
          </a:xfrm>
        </p:grpSpPr>
        <p:sp>
          <p:nvSpPr>
            <p:cNvPr id="103" name=""/>
            <p:cNvSpPr/>
            <p:nvPr/>
          </p:nvSpPr>
          <p:spPr>
            <a:xfrm>
              <a:off x="3166560" y="571356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6240" y="58150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32200" y="5226120"/>
            <a:ext cx="1862280" cy="398880"/>
            <a:chOff x="2932200" y="5226120"/>
            <a:chExt cx="1862280" cy="398880"/>
          </a:xfrm>
        </p:grpSpPr>
        <p:sp>
          <p:nvSpPr>
            <p:cNvPr id="106" name=""/>
            <p:cNvSpPr/>
            <p:nvPr/>
          </p:nvSpPr>
          <p:spPr>
            <a:xfrm>
              <a:off x="3155400" y="522612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32200" y="5327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95" idx="2"/>
            <a:endCxn id="107" idx="2"/>
          </p:cNvCxnSpPr>
          <p:nvPr/>
        </p:nvCxnSpPr>
        <p:spPr>
          <a:xfrm flipH="1" rot="16200000">
            <a:off x="1962000" y="446616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5" idx="2"/>
            <a:endCxn id="104" idx="2"/>
          </p:cNvCxnSpPr>
          <p:nvPr/>
        </p:nvCxnSpPr>
        <p:spPr>
          <a:xfrm flipH="1" rot="16200000">
            <a:off x="1725480" y="470268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10" name=""/>
          <p:cNvGrpSpPr/>
          <p:nvPr/>
        </p:nvGrpSpPr>
        <p:grpSpPr>
          <a:xfrm>
            <a:off x="4361040" y="3565440"/>
            <a:ext cx="1357200" cy="395280"/>
            <a:chOff x="4361040" y="3565440"/>
            <a:chExt cx="1357200" cy="395280"/>
          </a:xfrm>
        </p:grpSpPr>
        <p:sp>
          <p:nvSpPr>
            <p:cNvPr id="111" name=""/>
            <p:cNvSpPr/>
            <p:nvPr/>
          </p:nvSpPr>
          <p:spPr>
            <a:xfrm>
              <a:off x="4361040" y="356544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720" y="356544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64120" y="41162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76880" y="4022640"/>
            <a:ext cx="1319040" cy="399960"/>
            <a:chOff x="4376880" y="4022640"/>
            <a:chExt cx="1319040" cy="399960"/>
          </a:xfrm>
        </p:grpSpPr>
        <p:sp>
          <p:nvSpPr>
            <p:cNvPr id="115" name=""/>
            <p:cNvSpPr/>
            <p:nvPr/>
          </p:nvSpPr>
          <p:spPr>
            <a:xfrm>
              <a:off x="4376880" y="402264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61280" y="402264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307600" y="386064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480" y="33847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97360" y="49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60800" y="475920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873080" y="5688000"/>
            <a:ext cx="903600" cy="407520"/>
            <a:chOff x="1873080" y="5688000"/>
            <a:chExt cx="903600" cy="407520"/>
          </a:xfrm>
        </p:grpSpPr>
        <p:sp>
          <p:nvSpPr>
            <p:cNvPr id="122" name=""/>
            <p:cNvSpPr/>
            <p:nvPr/>
          </p:nvSpPr>
          <p:spPr>
            <a:xfrm>
              <a:off x="2079720" y="570060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3080" y="580212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78000" y="5688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63720" y="5211720"/>
            <a:ext cx="902880" cy="407520"/>
            <a:chOff x="1863720" y="5211720"/>
            <a:chExt cx="902880" cy="407520"/>
          </a:xfrm>
        </p:grpSpPr>
        <p:sp>
          <p:nvSpPr>
            <p:cNvPr id="126" name=""/>
            <p:cNvSpPr/>
            <p:nvPr/>
          </p:nvSpPr>
          <p:spPr>
            <a:xfrm>
              <a:off x="2070000" y="522432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3720" y="5325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168280" y="52117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9" name=""/>
          <p:cNvCxnSpPr>
            <a:stCxn id="95" idx="2"/>
            <a:endCxn id="119" idx="2"/>
          </p:cNvCxnSpPr>
          <p:nvPr/>
        </p:nvCxnSpPr>
        <p:spPr>
          <a:xfrm flipH="1" rot="16200000">
            <a:off x="2217600" y="421092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888840" y="261000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2" idx="2"/>
            <a:endCxn id="101" idx="2"/>
          </p:cNvCxnSpPr>
          <p:nvPr/>
        </p:nvCxnSpPr>
        <p:spPr>
          <a:xfrm flipH="1" rot="16200000">
            <a:off x="2973240" y="257616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1917720" y="287640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74920" y="286380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2"/>
            <a:endCxn id="113" idx="2"/>
          </p:cNvCxnSpPr>
          <p:nvPr/>
        </p:nvCxnSpPr>
        <p:spPr>
          <a:xfrm flipH="1" rot="16200000">
            <a:off x="2512080" y="257328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480" y="10303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8" idx="0"/>
            <a:endCxn id="139" idx="4"/>
          </p:cNvCxnSpPr>
          <p:nvPr/>
        </p:nvCxnSpPr>
        <p:spPr>
          <a:xfrm flipV="1">
            <a:off x="996480" y="16650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991800" y="17193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12720" y="4202280"/>
            <a:ext cx="2059200" cy="606960"/>
            <a:chOff x="612720" y="4202280"/>
            <a:chExt cx="2059200" cy="606960"/>
          </a:xfrm>
        </p:grpSpPr>
        <p:sp>
          <p:nvSpPr>
            <p:cNvPr id="142" name=""/>
            <p:cNvSpPr/>
            <p:nvPr/>
          </p:nvSpPr>
          <p:spPr>
            <a:xfrm>
              <a:off x="612720" y="442440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11280" y="4202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77960" y="44208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5" name=""/>
          <p:cNvCxnSpPr>
            <a:stCxn id="146" idx="2"/>
            <a:endCxn id="143" idx="0"/>
          </p:cNvCxnSpPr>
          <p:nvPr/>
        </p:nvCxnSpPr>
        <p:spPr>
          <a:xfrm>
            <a:off x="1603440" y="3110040"/>
            <a:ext cx="2160" cy="107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342720" y="35892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37280" y="245412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2440" y="267012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3240" y="14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72440" y="22525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33440" y="320508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64120" y="3706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946240" y="5761080"/>
            <a:ext cx="2863800" cy="398880"/>
            <a:chOff x="2946240" y="5761080"/>
            <a:chExt cx="2863800" cy="398880"/>
          </a:xfrm>
        </p:grpSpPr>
        <p:sp>
          <p:nvSpPr>
            <p:cNvPr id="153" name=""/>
            <p:cNvSpPr/>
            <p:nvPr/>
          </p:nvSpPr>
          <p:spPr>
            <a:xfrm>
              <a:off x="3166560" y="576108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46240" y="58626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932200" y="5273640"/>
            <a:ext cx="1862280" cy="398880"/>
            <a:chOff x="2932200" y="5273640"/>
            <a:chExt cx="1862280" cy="398880"/>
          </a:xfrm>
        </p:grpSpPr>
        <p:sp>
          <p:nvSpPr>
            <p:cNvPr id="156" name=""/>
            <p:cNvSpPr/>
            <p:nvPr/>
          </p:nvSpPr>
          <p:spPr>
            <a:xfrm>
              <a:off x="3155400" y="527364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2200" y="537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2" idx="2"/>
            <a:endCxn id="157" idx="2"/>
          </p:cNvCxnSpPr>
          <p:nvPr/>
        </p:nvCxnSpPr>
        <p:spPr>
          <a:xfrm flipH="1" rot="16200000">
            <a:off x="1962000" y="4513680"/>
            <a:ext cx="63540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2" idx="2"/>
            <a:endCxn id="154" idx="2"/>
          </p:cNvCxnSpPr>
          <p:nvPr/>
        </p:nvCxnSpPr>
        <p:spPr>
          <a:xfrm flipH="1" rot="16200000">
            <a:off x="1725480" y="475020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60" name=""/>
          <p:cNvGrpSpPr/>
          <p:nvPr/>
        </p:nvGrpSpPr>
        <p:grpSpPr>
          <a:xfrm>
            <a:off x="4361040" y="3613320"/>
            <a:ext cx="1357200" cy="395280"/>
            <a:chOff x="4361040" y="3613320"/>
            <a:chExt cx="1357200" cy="395280"/>
          </a:xfrm>
        </p:grpSpPr>
        <p:sp>
          <p:nvSpPr>
            <p:cNvPr id="161" name=""/>
            <p:cNvSpPr/>
            <p:nvPr/>
          </p:nvSpPr>
          <p:spPr>
            <a:xfrm>
              <a:off x="4361040" y="361332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9720" y="361332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164120" y="41641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376880" y="4070520"/>
            <a:ext cx="1319040" cy="399960"/>
            <a:chOff x="4376880" y="4070520"/>
            <a:chExt cx="1319040" cy="399960"/>
          </a:xfrm>
        </p:grpSpPr>
        <p:sp>
          <p:nvSpPr>
            <p:cNvPr id="165" name=""/>
            <p:cNvSpPr/>
            <p:nvPr/>
          </p:nvSpPr>
          <p:spPr>
            <a:xfrm>
              <a:off x="4376880" y="407052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1280" y="407052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307600" y="390852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9480" y="34322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97360" y="4948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73080" y="5735160"/>
            <a:ext cx="903600" cy="408600"/>
            <a:chOff x="1873080" y="5735160"/>
            <a:chExt cx="903600" cy="408600"/>
          </a:xfrm>
        </p:grpSpPr>
        <p:sp>
          <p:nvSpPr>
            <p:cNvPr id="171" name=""/>
            <p:cNvSpPr/>
            <p:nvPr/>
          </p:nvSpPr>
          <p:spPr>
            <a:xfrm>
              <a:off x="2079720" y="5748480"/>
              <a:ext cx="69696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73080" y="5850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78000" y="573516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63720" y="5258880"/>
            <a:ext cx="902880" cy="408600"/>
            <a:chOff x="1863720" y="5258880"/>
            <a:chExt cx="902880" cy="408600"/>
          </a:xfrm>
        </p:grpSpPr>
        <p:sp>
          <p:nvSpPr>
            <p:cNvPr id="175" name=""/>
            <p:cNvSpPr/>
            <p:nvPr/>
          </p:nvSpPr>
          <p:spPr>
            <a:xfrm>
              <a:off x="2070000" y="5272200"/>
              <a:ext cx="69660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3720" y="5373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168280" y="525888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>
            <a:stCxn id="142" idx="2"/>
            <a:endCxn id="169" idx="2"/>
          </p:cNvCxnSpPr>
          <p:nvPr/>
        </p:nvCxnSpPr>
        <p:spPr>
          <a:xfrm flipH="1" rot="16200000">
            <a:off x="2217600" y="425880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36" idx="3"/>
            <a:endCxn id="149" idx="0"/>
          </p:cNvCxnSpPr>
          <p:nvPr/>
        </p:nvCxnSpPr>
        <p:spPr>
          <a:xfrm>
            <a:off x="3479400" y="12427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5931000" y="27860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46" idx="3"/>
            <a:endCxn id="180" idx="2"/>
          </p:cNvCxnSpPr>
          <p:nvPr/>
        </p:nvCxnSpPr>
        <p:spPr>
          <a:xfrm flipV="1">
            <a:off x="2881080" y="287892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3212640" y="249696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960" y="8809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88840" y="265752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5" idx="2"/>
            <a:endCxn id="151" idx="2"/>
          </p:cNvCxnSpPr>
          <p:nvPr/>
        </p:nvCxnSpPr>
        <p:spPr>
          <a:xfrm flipH="1" rot="16200000">
            <a:off x="2973240" y="262368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1917720" y="292428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4920" y="291132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2"/>
            <a:endCxn id="163" idx="2"/>
          </p:cNvCxnSpPr>
          <p:nvPr/>
        </p:nvCxnSpPr>
        <p:spPr>
          <a:xfrm flipH="1" rot="16200000">
            <a:off x="2512080" y="262080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9" idx="6"/>
            <a:endCxn id="148" idx="2"/>
          </p:cNvCxnSpPr>
          <p:nvPr/>
        </p:nvCxnSpPr>
        <p:spPr>
          <a:xfrm flipV="1">
            <a:off x="5938560" y="319896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5737320" y="372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0800" y="482292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4" idx="0"/>
            <a:endCxn id="19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2" idx="3"/>
            <a:endCxn id="199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3"/>
            <a:endCxn id="201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10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0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16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17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20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2" idx="4"/>
            <a:endCxn id="223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4"/>
            <a:endCxn id="227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0"/>
            <a:endCxn id="221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2" idx="0"/>
            <a:endCxn id="218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Latest ver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40" idx="0"/>
            <a:endCxn id="241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38" idx="3"/>
            <a:endCxn id="245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4" idx="3"/>
            <a:endCxn id="247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56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56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2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63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66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6512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8" idx="4"/>
            <a:endCxn id="269" idx="0"/>
          </p:cNvCxnSpPr>
          <p:nvPr/>
        </p:nvCxnSpPr>
        <p:spPr>
          <a:xfrm>
            <a:off x="558720" y="1765080"/>
            <a:ext cx="1368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2" idx="4"/>
            <a:endCxn id="273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5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6" idx="0"/>
            <a:endCxn id="267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80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8" idx="0"/>
            <a:endCxn id="264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9 = PERSON ('29', 'Crowley', 'Andrew', ('John'), ('Dr'), ('BEng','PhD','Principal Engine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30 = PERSON ('30', 'Watson', 'Alastair', ('S'), ('Dr'), ('BTech','PhD','CEng','MICE','Senior Lectur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Organizati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29 = ORGANIZATION ('129', 'Steel Construction Institute', 'Member based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30 = ORGANIZATION ('130', 'University of Leeds', 'Public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and Organization */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29 = PERSON_AND_ORGANIZATION (#2029, #212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30 = PERSON_AND_ORGANIZATION (#2030, #213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Address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29 = ORGANIZATIONAL_ADDRESS ('Unit D', 'Silwood Park', 'Buckhurst Road', $, 'Ascot', 'Berkshire', 'SL5 7QN', 'UK', '+44 (0) 1344 622944', '+44 (0) 1344 623345', 'a.crowley@steel-sci.com', $, (#2129), 'International headquarter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30 = ORGANIZATIONAL_ADDRESS ('School of Civil Engineering', 'University of Leeds', 'Woodhouse Lane', $, 'Leeds', 'West Yorkshire', 'LS2 9JT', 'UK', '+44 (0) 113 2332265', '+44 (0) 113 2332314', 'a.s.watson@leeds.ac.uk', $, (#2130), 'Departmental addres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8:37:08Z</dcterms:created>
  <dc:creator>Andrew Crowley</dc:creator>
  <dc:description/>
  <dc:language>en-US</dc:language>
  <cp:lastModifiedBy>Andrew Crowley</cp:lastModifiedBy>
  <dcterms:modified xsi:type="dcterms:W3CDTF">2000-08-31T10:43:36Z</dcterms:modified>
  <cp:revision>25</cp:revision>
  <dc:subject/>
  <dc:title>Data Management</dc:title>
</cp:coreProperties>
</file>